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9095-2596-4DBB-861D-2A138D532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432F-61E9-4067-8AE9-BD09859B7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 links to CWS website from CB home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6F2413C-7699-4AF5-B627-B3EFFD10B0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 11 and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ence jobs and job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or 4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e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34AF-F3CD-412E-9D51-3A0CEE9202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21F3-F8E8-499C-A286-BD4977551C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indicate summer school course choices on the parental signage sheets with the options cho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not a summer school registration. This will occur in M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34B7-8195-4321-ADE2-D3ABDEE590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4B83-FD47-46C1-8589-8193B416AB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E343-55AC-475E-9590-CAC02A85AC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 course code changes from grades 9 and 10  and into grade 11 and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A08-D304-4DED-B12F-A92F5A23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3D9-BA4D-4942-A4E0-36605815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BA4-5C25-4913-86AD-1C2BA177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2C6-C400-49F2-B52B-17B02656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9962-D59C-4AA8-B55D-AD3E3E41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937D-A0AF-49F6-B780-E78A2058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4C7-5128-444F-81DD-C9F6B147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3D11-24C9-4A5B-AE03-3BD8B5FA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CDF9-004D-476A-9E6A-48556335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3573-3F19-4E4F-ACCE-C8BD235D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F733-CF95-4543-8293-361BBA96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E8F-6EB8-4175-8C81-E47BE267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B355-AC56-4770-9852-3406822E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2EA2-1732-430D-B3A1-BCE3076B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6242-CD54-4BF8-82E9-FBD36BE5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AB20-B56A-4997-8291-78CEFF06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3965-44FE-4C1B-B5D5-2425DEF9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F1B-F24D-4A0B-8540-04C413D1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D2A-3444-4811-B615-98DD029F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989-2666-4181-AA84-3DC633BF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91B-C6ED-43ED-AAFB-A37E93AF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173-0932-4B9C-B5E0-B5D486DB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EC2-D3C1-437A-ACDF-CEE1329A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6B5-D9C7-43FC-AAE3-833C9D6D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7C8C-FD3F-473B-837D-CB86D034B6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02DF-73DA-4F71-8568-2FEDA4ED37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ntariocolleges.ca/" TargetMode="External"/><Relationship Id="rId2" Type="http://schemas.openxmlformats.org/officeDocument/2006/relationships/hyperlink" Target="http://www.electronicinfo.ca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lonelby.com/teachers/canadianandworldstud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colonelby.com/" TargetMode="External"/><Relationship Id="rId2" Type="http://schemas.openxmlformats.org/officeDocument/2006/relationships/hyperlink" Target="mailto:jill.badgery@ocdsb.ca" TargetMode="External"/><Relationship Id="rId3" Type="http://schemas.openxmlformats.org/officeDocument/2006/relationships/hyperlink" Target="mailto:sarah.storey@ocdsb.ca" TargetMode="External"/><Relationship Id="rId4" Type="http://schemas.openxmlformats.org/officeDocument/2006/relationships/hyperlink" Target="mailto:Rachel.nakashoji@ocdsb.c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olonelby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gradient.jpg"/>
          <p:cNvPicPr/>
          <p:nvPr/>
        </p:nvPicPr>
        <p:blipFill>
          <a:blip r:embed="rId1"/>
          <a:stretch/>
        </p:blipFill>
        <p:spPr>
          <a:xfrm>
            <a:off x="228600" y="0"/>
            <a:ext cx="9215280" cy="6985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rest2.gif"/>
          <p:cNvPicPr/>
          <p:nvPr/>
        </p:nvPicPr>
        <p:blipFill>
          <a:blip r:embed="rId2"/>
          <a:stretch/>
        </p:blipFill>
        <p:spPr>
          <a:xfrm>
            <a:off x="3846600" y="2031840"/>
            <a:ext cx="2028600" cy="212724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8" descr=""/>
          <p:cNvPicPr/>
          <p:nvPr/>
        </p:nvPicPr>
        <p:blipFill>
          <a:blip r:embed="rId3"/>
          <a:stretch/>
        </p:blipFill>
        <p:spPr>
          <a:xfrm>
            <a:off x="658800" y="42840"/>
            <a:ext cx="802152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IBLogo.gif"/>
          <p:cNvPicPr/>
          <p:nvPr/>
        </p:nvPicPr>
        <p:blipFill>
          <a:blip r:embed="rId4"/>
          <a:stretch/>
        </p:blipFill>
        <p:spPr>
          <a:xfrm>
            <a:off x="7678800" y="5659560"/>
            <a:ext cx="1289160" cy="1265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47920" y="45720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4724280"/>
            <a:ext cx="52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urse Selectio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17-2018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pulsory Credits Required for OSS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10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English, French, International language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Social Science (ex. HSP, HRT)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CWS (ex. geo, history) OR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Guidance or Coop cred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Health and Physical Education,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Arts OR Business Studies OR French OR Coo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Science (Grade 11 or 12)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Technological Education OR French 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Computer Studies (ICS) OR Coo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 (ex. SBI3C, SCH4C, MAP4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Earn an undergraduate/ Bachelor’s Degree (BSc, BCom, BA, et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SSD, ENG4U and specific program require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ontrac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or what you want to take next ye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earch your post-secondary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and consider teachers’ advice (re: level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e will try to place you in all of your requested courses, but if we cannot, we will use your alternate choi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3886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Colle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BF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P4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80880" y="1600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Essent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3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4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gradient.jpg"/>
          <p:cNvPicPr/>
          <p:nvPr/>
        </p:nvPicPr>
        <p:blipFill>
          <a:blip r:embed="rId1"/>
          <a:stretch/>
        </p:blipFill>
        <p:spPr>
          <a:xfrm>
            <a:off x="-9360" y="-6480"/>
            <a:ext cx="9153360" cy="1168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gradient.jpg"/>
          <p:cNvPicPr/>
          <p:nvPr/>
        </p:nvPicPr>
        <p:blipFill>
          <a:blip r:embed="rId2"/>
          <a:stretch/>
        </p:blipFill>
        <p:spPr>
          <a:xfrm>
            <a:off x="0" y="6359400"/>
            <a:ext cx="9153360" cy="517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paw.gif"/>
          <p:cNvPicPr/>
          <p:nvPr/>
        </p:nvPicPr>
        <p:blipFill>
          <a:blip r:embed="rId3"/>
          <a:stretch/>
        </p:blipFill>
        <p:spPr>
          <a:xfrm rot="20052600">
            <a:off x="309600" y="6321600"/>
            <a:ext cx="517320" cy="552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rest2.gif"/>
          <p:cNvPicPr/>
          <p:nvPr/>
        </p:nvPicPr>
        <p:blipFill>
          <a:blip r:embed="rId4"/>
          <a:stretch/>
        </p:blipFill>
        <p:spPr>
          <a:xfrm>
            <a:off x="260280" y="49320"/>
            <a:ext cx="1008000" cy="105732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 9" descr=""/>
          <p:cNvPicPr/>
          <p:nvPr/>
        </p:nvPicPr>
        <p:blipFill>
          <a:blip r:embed="rId5"/>
          <a:stretch/>
        </p:blipFill>
        <p:spPr>
          <a:xfrm>
            <a:off x="3029040" y="-219240"/>
            <a:ext cx="2950920" cy="1163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1"/>
          <p:cNvSpPr/>
          <p:nvPr/>
        </p:nvSpPr>
        <p:spPr>
          <a:xfrm>
            <a:off x="3320280" y="6459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“</a:t>
            </a: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WHAT WE HAVE BEGUN WE SHALL FINISH</a:t>
            </a:r>
            <a:r>
              <a:rPr b="0" lang="en-US" sz="12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3547080" y="91116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“</a:t>
            </a: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QUAD INCEPIMUS CONFIEMUS”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15" descr="paw.gif"/>
          <p:cNvPicPr/>
          <p:nvPr/>
        </p:nvPicPr>
        <p:blipFill>
          <a:blip r:embed="rId6"/>
          <a:stretch/>
        </p:blipFill>
        <p:spPr>
          <a:xfrm rot="20052600">
            <a:off x="8277120" y="6321240"/>
            <a:ext cx="517680" cy="55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IBLogo.gif"/>
          <p:cNvPicPr/>
          <p:nvPr/>
        </p:nvPicPr>
        <p:blipFill>
          <a:blip r:embed="rId7"/>
          <a:stretch/>
        </p:blipFill>
        <p:spPr>
          <a:xfrm>
            <a:off x="7977240" y="104760"/>
            <a:ext cx="990720" cy="9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8"/>
          <a:stretch/>
        </p:blipFill>
        <p:spPr>
          <a:xfrm>
            <a:off x="1533600" y="1268280"/>
            <a:ext cx="6037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3886200"/>
          <a:ext cx="8534160" cy="254304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7840"/>
                <a:gridCol w="1706760"/>
                <a:gridCol w="1706400"/>
              </a:tblGrid>
              <a:tr h="482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– University (Specific Program Requirement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MH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pre/co-requisite to MCV4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" y="1600200"/>
          <a:ext cx="8686440" cy="1904760"/>
        </p:xfrm>
        <a:graphic>
          <a:graphicData uri="http://schemas.openxmlformats.org/drawingml/2006/table">
            <a:tbl>
              <a:tblPr/>
              <a:tblGrid>
                <a:gridCol w="1736640"/>
                <a:gridCol w="1737360"/>
                <a:gridCol w="1738440"/>
                <a:gridCol w="1737360"/>
                <a:gridCol w="1736640"/>
              </a:tblGrid>
              <a:tr h="515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Univer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F3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990720" y="434880"/>
            <a:ext cx="70452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ience Op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1905120"/>
          <a:ext cx="8458200" cy="169380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lege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C (every other yea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*2017-1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28600" y="4267080"/>
          <a:ext cx="8534520" cy="24606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706760"/>
              </a:tblGrid>
              <a:tr h="48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(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(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S4U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*2017-201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nadian World Studies and Humanit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1066680"/>
          <a:ext cx="8458200" cy="159876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P/D/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D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80880" y="4952880"/>
          <a:ext cx="8534520" cy="159192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tics and 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/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U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PW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80880" y="2819520"/>
          <a:ext cx="8534520" cy="189216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89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 &amp; Human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/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W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P3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T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BV3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B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E4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r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859040"/>
                <a:gridCol w="152388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P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814400"/>
                <a:gridCol w="16002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ama and Musical Theat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A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80880" y="3200400"/>
          <a:ext cx="8534520" cy="181116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387440"/>
                <a:gridCol w="2133720"/>
                <a:gridCol w="1600200"/>
              </a:tblGrid>
              <a:tr h="411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1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2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3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4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olog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1371600"/>
          <a:ext cx="8458200" cy="213516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3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chnolog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V4M (C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80880" y="4114800"/>
          <a:ext cx="8458200" cy="24512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7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disciplinary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C4U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Media:  A Critical Approach to Journal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80880" y="320040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4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ersion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Phys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04920" y="1523880"/>
          <a:ext cx="8458200" cy="3249720"/>
        </p:xfrm>
        <a:graphic>
          <a:graphicData uri="http://schemas.openxmlformats.org/drawingml/2006/table">
            <a:tbl>
              <a:tblPr/>
              <a:tblGrid>
                <a:gridCol w="1523880"/>
                <a:gridCol w="1981080"/>
                <a:gridCol w="1752840"/>
                <a:gridCol w="1509480"/>
                <a:gridCol w="1690920"/>
              </a:tblGrid>
              <a:tr h="411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1OP/Q/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2OP/Q/1/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2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3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4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3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 scie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 3U recommend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uidance and Career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1523880"/>
          <a:ext cx="8458200" cy="213516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000"/>
                <a:gridCol w="1690920"/>
              </a:tblGrid>
              <a:tr h="414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eer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S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E2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C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WL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N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usiness and Computer Stud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MI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H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80880" y="358128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uter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standing your Credit Counselling Summar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st courses, current cour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 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-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429000" cy="2400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486240" cy="240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3419640" cy="2438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4"/>
          <a:stretch/>
        </p:blipFill>
        <p:spPr>
          <a:xfrm>
            <a:off x="4800600" y="3924360"/>
            <a:ext cx="349560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SM – Arts and Cul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167652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 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ertification and in-depth training in a chose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ployment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pathway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OSS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209680"/>
            <a:ext cx="693432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areer Cruis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(www.careercruising.com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Follow link on www.colonelby.co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-76320" y="0"/>
          <a:ext cx="9448920" cy="68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0"/>
                    <a:ext cx="944892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14479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nting after submitting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ssential to final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urse selection proc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mmer School intention, Media Consent, Use of Technology agreement will also print and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t be signed by student and par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submitted along with course selection p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If an override is required </a:t>
            </a: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in order to submit, students must see Guidance Counsellor. This will be necessary for program changes and when online learning is select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Please submit by 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February 24</a:t>
            </a:r>
            <a:r>
              <a:rPr b="1" lang="en-CA" sz="28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, 2017</a:t>
            </a:r>
            <a:r>
              <a:rPr b="1" lang="en-C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to Subject teachers (in class where course presentation occurred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pril/May registration completed online through Career Cruising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each Ahead and Make u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uly (3.5 week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stly compulsory courses with some electiv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licts may occur. Choose alterna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ority is given to compulsory credits/ graduation requirem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course choices careful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nges are not always pos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ease contact your guidance counsellor with questions. Appointments can be booked online a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colonelby.c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min--Guida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jill.badgery@ocdsb.c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(A-F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sarah.storey@ocdsb.c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(G-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rachel.nakashoji@ocdsb.c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P-Z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6" name="Rectangle 43"/>
          <p:cNvGraphicFramePr/>
          <p:nvPr/>
        </p:nvGraphicFramePr>
        <p:xfrm>
          <a:off x="928800" y="1963800"/>
          <a:ext cx="7284960" cy="38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Rectangle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63800"/>
                    <a:ext cx="728496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8088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CA" sz="7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CA" sz="7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CA" sz="7200" spc="-1" strike="noStrike">
                <a:solidFill>
                  <a:srgbClr val="ffffff"/>
                </a:solidFill>
                <a:latin typeface="Verdana"/>
              </a:rPr>
              <a:t>Thank you.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Slides shows and resources available at </a:t>
            </a:r>
            <a:r>
              <a:rPr b="0" lang="en-CA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colonelby.com</a:t>
            </a: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(Admin- Guidance- Course selec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Levels - Grade 10 </a:t>
            </a:r>
            <a:r>
              <a:rPr b="0" lang="en-CA" sz="4400" spc="-1" strike="noStrike">
                <a:solidFill>
                  <a:srgbClr val="ccecff"/>
                </a:solidFill>
                <a:latin typeface="Wingdings"/>
                <a:ea typeface="Wingdings"/>
              </a:rPr>
              <a:t></a:t>
            </a: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371600"/>
          <a:ext cx="8076960" cy="4191120"/>
        </p:xfrm>
        <a:graphic>
          <a:graphicData uri="http://schemas.openxmlformats.org/drawingml/2006/table">
            <a:tbl>
              <a:tblPr/>
              <a:tblGrid>
                <a:gridCol w="4038840"/>
                <a:gridCol w="403812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 &amp; 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 &amp;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ademic (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(U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ed    (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/College (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n       (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lege (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n       (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kplace (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896040" y="5791320"/>
            <a:ext cx="7413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IB</a:t>
            </a: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 will add a E or J at the end of the code (ENG3U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read a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three letters are the subj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G  = Eng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VI   = Visual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BI    = Biolo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Indicates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= 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 = 1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= 1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 =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.  ENG3U  LWSDU  SCH4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C32954</cp:lastModifiedBy>
  <dcterms:modified xsi:type="dcterms:W3CDTF">2017-02-09T19:48:31Z</dcterms:modified>
  <cp:revision>92</cp:revision>
  <dc:subject/>
  <dc:title>Option sheets 2014-2015</dc:title>
</cp:coreProperties>
</file>